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93C-BC13-421D-A0BF-7ADC8474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50A-4B0A-479E-B078-6B4FDE7B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A2565-1C23-4380-9D21-612133A7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5F057-08C5-46DD-8311-798A35BE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2C9FF-2686-43D6-A57D-5A1D5C95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05C63-CCB5-4227-A2B3-C1D00307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71C3D-E113-4268-B918-7D3A480E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44B45-9FAC-4F2C-BB92-3E724B05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F46D7-C3D5-4F81-94C7-CE48BA48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2FD60-BBD8-40DB-BF19-D7DA1EE6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67172-4E0E-4DDE-ACC8-2A6CC6DE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41608-C43D-4698-99A6-22B05CD6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080-813F-4F36-9C35-0FEAC94D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7BC23-0474-4952-A05F-684F07D3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85919-6E0C-4073-B27C-05F29F8F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39F9A-44FB-4A8A-8DC8-CAD21682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E73EE-9E82-4D32-BF85-9AFB2F30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BAF58-6460-4E5F-9104-F5469B7B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14BF5-3488-4597-8281-7DC43CD9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44DBF-5E03-4BB6-8BD3-9B9FDC2F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3D4D7-0A2A-41B7-95CA-EB7324B0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30780-C378-432B-B2A1-7FA07A54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5D752-496B-48D0-99A6-1AADD092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0C1-1B92-4EEE-A0B7-A9B741FC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AD498-1164-4A7E-9D88-3D14EBCA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59C63-ED73-4D26-952D-21C85380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8AD93-9CAA-4E90-ADE5-74CB1A63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FC1D8-37E6-4B86-B661-2EABB9C8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7DD20-DB55-495F-BC4B-29BD1CC3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7DF5A-F1E2-48D4-824A-7B419105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C76B6-A1B1-45D1-9108-18315375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EB58A-F311-41DC-A510-3A9E9F93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07AE5-5B20-4F16-AF06-1AD4A7A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811BD-3C20-49E3-8C3A-93E0F980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9F20-CBB8-4EDB-9856-1F006DE9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4714D-E659-462A-AD3F-F89DDD40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CAB4E-0176-4D55-81A9-726D2728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CF9DA-AE9E-4FCE-96CF-7AD01079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7792C-EA54-4198-9481-130B00A7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CEEA9-2A17-4BBD-98AE-70C6F994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FDE83-C7C5-4459-AA47-2C50F16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A158C-719D-4BC5-AB19-DEB55AC5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2B20E-606D-4372-8B79-C64F650C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C181B-AEF4-40B7-83AE-96F7ABD1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7A0E5-B9A2-45A5-A5E6-00072A71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3ECD-B791-4451-999A-6B589F28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F2DB0-0C3F-4B78-9BE5-73471505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C996D-4720-4C8F-A041-33807A22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C2456-4D29-4186-A384-C76B3344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507C4-FD56-4005-9CF5-DF8E5B78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87742-654D-400F-8701-85A3127C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9D2C-1BBF-45C9-9448-CFCF76B5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62A5-E383-4AF3-ADF3-1971D1F7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B238-D9CD-4602-9C52-DB2A595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D67E-D3DF-4821-A907-1E83E48B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4DDF-8EF0-4827-A7F1-E1E4A6DD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DB3-CFE2-412B-BE4D-FD9631AE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1927-BDFC-48AE-98B1-7722676B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BEE8-1806-4AD4-A142-1D372B30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CB95-51A3-4BA0-A151-1E968CDB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A5B8-BAEA-40D2-8E01-FB75E48E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4532-1C4F-45D7-9BC4-7AF28327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6E4C8-FE81-4ECA-ABD1-67C58994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1A2E-81F1-4887-AB93-2224EA47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72DF-8B91-4B18-9DA3-EB810FDC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6687-CC7D-42C5-85C9-0F2E8548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D8C5-9CB7-420E-ACBB-7479461E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5A9-E9F6-4B94-B39D-ABE706CD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0DAFC-B46F-47EC-8F60-37C0725F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A862D-38C9-435C-8B39-9BE3090A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D165-7FC0-4B6C-85D2-49C28266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1225-FF9B-4DA6-BA3A-78491F5A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68505-8D43-4B00-A995-C7C504CB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C9C9C-CAEA-4B97-BE0E-9E6559A3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6CB9-EE7E-4DB3-82A7-67175342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5F241-FAAB-4DBE-A3E8-BA8F660A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4240E-F32B-484E-8AD4-A8C748E7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01B0-9938-458A-A183-13BD780D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5E6-86EC-419E-85BD-5ED38130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BC53D-E1FB-4127-9B70-A98EF009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27E5C-81BA-49A8-891E-647710FB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FDFC-BC24-464C-9738-ED3C883B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24A70-E975-4EC0-9243-FCC85DB7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8BA2-D7AE-4989-87D4-031C996C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7A55-4EB1-4CC1-9D77-23574F2A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3288-041E-4379-9782-83A15CC3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72497-A0CB-49FB-8941-AB896270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D1333-A24B-477C-87F5-3778B4F9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83686-9CCF-4CC3-8986-EB339AF7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B7C-E9AD-4A1D-8ED3-4764CBB9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3682E-A73E-4CC3-9F34-322822CB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598F2-9C92-4A46-B4C0-26D247BC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EB76E-A43F-460A-BFB1-AF1182D6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C825B-8BAD-429C-8309-025235A2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9D2D-3377-44C8-A104-CBBEDF25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938B8-EF8F-4DAB-B4B6-11F6835B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E5746-2E80-4522-A5EF-55BA3DF9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D486D-FA14-41FA-A170-97D2EF8D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817F8-8BD1-4BF7-8899-BACD5DEF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7D70E-05D4-4E13-A026-34382D4D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AE1-0714-474B-AEE6-167367C7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1BBF-B219-45D9-B33E-A144157C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BB822-41CE-4D74-9C98-5DD3D812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E5640-B2A5-40DD-A663-ED229D76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C9D73-D463-4D9C-A4A0-A3094CB9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9AF03-F714-4016-8C19-B961BEB3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36431-BBDA-4274-8D71-14109BF5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C14D9-A205-4532-979A-77899F28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DF36-2682-4C9B-8AA4-03152832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39246-53A6-4E87-BED9-A59BE49B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A8709-2351-4B1B-ADE0-F8314131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0EE-94EA-4F61-8B7D-342E75C5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C3649-11E4-4E14-8EA3-E86A6A51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DB3E5-81D2-4534-923A-2FDA3CF8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F279D-72E0-46F2-8079-EC75F07D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EF05C-20D4-43A8-B0C3-D2EAEA40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97A11-4518-421F-8158-662A4C0E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B1FFD-7593-4F36-BF03-AB4B505F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69B69-2EB1-43FC-8E03-A848AB94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17A2E-DF76-4C62-9A29-624AEDA3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C7E78-FA3E-493B-A023-5049D961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2F02D-BF9F-4632-9047-4B56F041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1D0-85C1-49AA-84DE-5B80EDD5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CC07B-5BA2-40FA-8120-F0D96AF8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D7777-516A-4B5C-A0C8-6B9F803D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344AA-652C-4ECC-B942-58AF3C73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F4C38-7F53-42E7-AECB-589D9302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668FE-A53C-4FEB-926D-196C0075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BE3EE-3BB4-4B3C-9E34-6278414F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B7EC2-E200-4461-A08F-97E13AFE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F38CE-881C-4BBD-B406-74A79182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C7D42-C949-440A-A522-12C2E319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5B579-D50D-4B91-8C70-CC7F2DEA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794-DE88-494A-A2B0-34DB6994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8B0CF-8ADC-4776-8767-A3A97796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8A3B9-2B7D-4031-BF62-E4AF3EDE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24EA0-50D4-45AE-ACF1-89785107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22500-6C7D-4297-9997-C345970A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D1491-8C1C-4065-824B-60BB8D58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4F866-65F8-40DA-8380-76D766FB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85E55-FF81-4326-9865-8B0D66CA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2BCA1-3775-41F3-B26A-C571E5E2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56A61-B391-4AD5-A03F-88A181FA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9D968-2014-4D78-B8D7-8655A835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7058-3F82-4D43-B4A7-A0A0BC7B5DF9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73F8-965D-4196-8260-02FD7BA0C42C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4B30-6AE0-4D9A-B9FD-979A63B54F7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D67A-7181-4E11-BD3B-7FC5DDDF454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1345-63FE-465E-9743-5989D333EEC1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6992-46DC-4492-A8B6-1CF1171AA9C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0FFF-8C0E-4B91-B89E-21B87C30A55C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176D-056F-48C1-ACCE-E056D22A921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4378-E13C-452C-A0DA-CC7CDAAC43EF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0FB5-DF7E-463B-BCE1-156C0D25D7B0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BD6F-6CA7-446A-B28D-2A769160A4DE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D496-2482-4ED6-9F35-5EFC4642617B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9"/>
          <p:cNvSpPr/>
          <p:nvPr/>
        </p:nvSpPr>
        <p:spPr>
          <a:xfrm>
            <a:off x="800280" y="4255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Similar Verb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800280" y="1187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y verbos parecido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11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3206880" cy="458640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12"/>
          <p:cNvSpPr/>
          <p:nvPr/>
        </p:nvSpPr>
        <p:spPr>
          <a:xfrm>
            <a:off x="2503440" y="1927080"/>
            <a:ext cx="1557360" cy="909720"/>
          </a:xfrm>
          <a:prstGeom prst="wedgeEllipseCallout">
            <a:avLst>
              <a:gd name="adj1" fmla="val 17481"/>
              <a:gd name="adj2" fmla="val 73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Te gusta mi coche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3"/>
          <p:cNvSpPr/>
          <p:nvPr/>
        </p:nvSpPr>
        <p:spPr>
          <a:xfrm>
            <a:off x="3741840" y="3811680"/>
            <a:ext cx="1854000" cy="695160"/>
          </a:xfrm>
          <a:prstGeom prst="wedgeEllipseCallout">
            <a:avLst>
              <a:gd name="adj1" fmla="val 18152"/>
              <a:gd name="adj2" fmla="val -76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í, me gusta much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14" descr="PPH%2BWL"/>
          <p:cNvPicPr/>
          <p:nvPr/>
        </p:nvPicPr>
        <p:blipFill>
          <a:blip r:embed="rId2"/>
          <a:stretch/>
        </p:blipFill>
        <p:spPr>
          <a:xfrm>
            <a:off x="152280" y="6192720"/>
            <a:ext cx="152424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1919160" y="914400"/>
            <a:ext cx="55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gus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e restaurant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45720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usta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used with indirect object pronou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2438280" y="13716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that restauran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3"/>
          <p:cNvSpPr/>
          <p:nvPr/>
        </p:nvSpPr>
        <p:spPr>
          <a:xfrm>
            <a:off x="1905120" y="19810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gus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té helado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2438280" y="2438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like iced tea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5"/>
          <p:cNvSpPr/>
          <p:nvPr/>
        </p:nvSpPr>
        <p:spPr>
          <a:xfrm>
            <a:off x="1905120" y="300204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gust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ucho las zanahoria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6"/>
          <p:cNvSpPr/>
          <p:nvPr/>
        </p:nvSpPr>
        <p:spPr>
          <a:xfrm>
            <a:off x="2438280" y="35211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e likes carrots a lo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7"/>
          <p:cNvSpPr/>
          <p:nvPr/>
        </p:nvSpPr>
        <p:spPr>
          <a:xfrm>
            <a:off x="1905120" y="40384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gus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l yogu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2438280" y="45259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e don’t like yogur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9"/>
          <p:cNvSpPr/>
          <p:nvPr/>
        </p:nvSpPr>
        <p:spPr>
          <a:xfrm>
            <a:off x="1905120" y="5135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gus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ar en casa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0"/>
          <p:cNvSpPr/>
          <p:nvPr/>
        </p:nvSpPr>
        <p:spPr>
          <a:xfrm>
            <a:off x="2438280" y="5668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ey like to eat dinner at hom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7"/>
          <p:cNvSpPr/>
          <p:nvPr/>
        </p:nvSpPr>
        <p:spPr>
          <a:xfrm>
            <a:off x="1143000" y="1241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urri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3505320" y="1241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bore; to ti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143000" y="17733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ant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3505320" y="1847880"/>
            <a:ext cx="5257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delight; to be extremely pleas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1143000" y="2765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lt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3505320" y="2832120"/>
            <a:ext cx="4876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be lacking or need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14300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cin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3505320" y="3403440"/>
            <a:ext cx="365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be fascina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1143000" y="39387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es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6"/>
          <p:cNvSpPr/>
          <p:nvPr/>
        </p:nvSpPr>
        <p:spPr>
          <a:xfrm>
            <a:off x="3505320" y="3994200"/>
            <a:ext cx="365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be interes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7"/>
          <p:cNvSpPr/>
          <p:nvPr/>
        </p:nvSpPr>
        <p:spPr>
          <a:xfrm>
            <a:off x="1143000" y="4525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lest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3505320" y="4584600"/>
            <a:ext cx="5181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be a bother or to anno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9"/>
          <p:cNvSpPr/>
          <p:nvPr/>
        </p:nvSpPr>
        <p:spPr>
          <a:xfrm>
            <a:off x="1143000" y="5111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ec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0"/>
          <p:cNvSpPr/>
          <p:nvPr/>
        </p:nvSpPr>
        <p:spPr>
          <a:xfrm>
            <a:off x="3505320" y="5141880"/>
            <a:ext cx="2286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see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1143000" y="56973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d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22"/>
          <p:cNvSpPr/>
          <p:nvPr/>
        </p:nvSpPr>
        <p:spPr>
          <a:xfrm>
            <a:off x="3505320" y="5751360"/>
            <a:ext cx="4647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o be left; to rem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26"/>
          <p:cNvSpPr/>
          <p:nvPr/>
        </p:nvSpPr>
        <p:spPr>
          <a:xfrm>
            <a:off x="38088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other verbs function lik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7"/>
          <p:cNvSpPr/>
          <p:nvPr/>
        </p:nvSpPr>
        <p:spPr>
          <a:xfrm>
            <a:off x="380880" y="8096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, too, are used with indirect object pronoun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3"/>
          <p:cNvSpPr/>
          <p:nvPr/>
        </p:nvSpPr>
        <p:spPr>
          <a:xfrm>
            <a:off x="1919160" y="1066680"/>
            <a:ext cx="50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bur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mer solo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2438280" y="15541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ting alone bores m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5"/>
          <p:cNvSpPr/>
          <p:nvPr/>
        </p:nvSpPr>
        <p:spPr>
          <a:xfrm>
            <a:off x="2438280" y="5135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rench cuisine fascinates u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1905120" y="22860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encan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mer fuera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8"/>
          <p:cNvSpPr/>
          <p:nvPr/>
        </p:nvSpPr>
        <p:spPr>
          <a:xfrm>
            <a:off x="2438280" y="2697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love to eat ou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1905120" y="4648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fasci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 cocina francesa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0"/>
          <p:cNvSpPr/>
          <p:nvPr/>
        </p:nvSpPr>
        <p:spPr>
          <a:xfrm>
            <a:off x="2438280" y="393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 you all need some napkin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1905120" y="34290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L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falt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rvilleta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2"/>
          <p:cNvSpPr/>
          <p:nvPr/>
        </p:nvSpPr>
        <p:spPr>
          <a:xfrm>
            <a:off x="38088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other verbs function lik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5"/>
          <p:cNvSpPr/>
          <p:nvPr/>
        </p:nvSpPr>
        <p:spPr>
          <a:xfrm>
            <a:off x="1523880" y="4248000"/>
            <a:ext cx="6705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T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que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uficiente dinero para pagar la cuenta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1981080" y="36496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is wine seems expensive to u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1523880" y="316224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pare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ro este vino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1981080" y="5181480"/>
            <a:ext cx="6096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 you have enough money left to pay the bill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1981080" y="14778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e’re interested in penguin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0"/>
          <p:cNvSpPr/>
          <p:nvPr/>
        </p:nvSpPr>
        <p:spPr>
          <a:xfrm>
            <a:off x="1523880" y="990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interes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os pingüino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1"/>
          <p:cNvSpPr/>
          <p:nvPr/>
        </p:nvSpPr>
        <p:spPr>
          <a:xfrm>
            <a:off x="1981080" y="2563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me customers annoy m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2"/>
          <p:cNvSpPr/>
          <p:nvPr/>
        </p:nvSpPr>
        <p:spPr>
          <a:xfrm>
            <a:off x="1523880" y="20764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olest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lgunos client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3"/>
          <p:cNvSpPr/>
          <p:nvPr/>
        </p:nvSpPr>
        <p:spPr>
          <a:xfrm>
            <a:off x="38088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other verbs function lik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914400" y="45720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like something a lot (mucho) or more (más) than something el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ch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mmediately follow the verb gustar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2133720" y="1962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uch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m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2514600" y="245124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really like to ea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219320" y="3333600"/>
            <a:ext cx="739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fferent word order would convey a different meaning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2209680" y="440064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gusta come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uch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905120" y="4921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ike to eat a lot of foo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914400" y="45720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like something a lot (mucho) or more (más) than something el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ch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mmediately follow the verb gustar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80880" y="22478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Te gustan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s naranjas o las toronja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80880" y="27367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like oranges or grapefruit best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1828800" y="371484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gustan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s naranja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1905120" y="4235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ike oranges bes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, the ver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ustar, encantar, et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us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usiv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dir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3"/>
          <p:cNvGrpSpPr/>
          <p:nvPr/>
        </p:nvGrpSpPr>
        <p:grpSpPr>
          <a:xfrm>
            <a:off x="1657440" y="1955880"/>
            <a:ext cx="4093920" cy="1955880"/>
            <a:chOff x="1657440" y="1955880"/>
            <a:chExt cx="4093920" cy="1955880"/>
          </a:xfrm>
        </p:grpSpPr>
        <p:sp>
          <p:nvSpPr>
            <p:cNvPr id="636" name="Rectangle 4"/>
            <p:cNvSpPr/>
            <p:nvPr/>
          </p:nvSpPr>
          <p:spPr>
            <a:xfrm>
              <a:off x="1657440" y="1955880"/>
              <a:ext cx="1041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3333cc"/>
                  </a:solidFill>
                  <a:latin typeface="Times New Roman"/>
                </a:rPr>
                <a:t>me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5"/>
            <p:cNvSpPr/>
            <p:nvPr/>
          </p:nvSpPr>
          <p:spPr>
            <a:xfrm>
              <a:off x="1657440" y="2543040"/>
              <a:ext cx="663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6"/>
            <p:cNvSpPr/>
            <p:nvPr/>
          </p:nvSpPr>
          <p:spPr>
            <a:xfrm>
              <a:off x="1657440" y="3225960"/>
              <a:ext cx="1071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r>
                <a:rPr b="0" lang="en-US" sz="3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7"/>
            <p:cNvSpPr/>
            <p:nvPr/>
          </p:nvSpPr>
          <p:spPr>
            <a:xfrm>
              <a:off x="4680000" y="1955880"/>
              <a:ext cx="1041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3333cc"/>
                  </a:solidFill>
                  <a:latin typeface="Times New Roman"/>
                </a:rPr>
                <a:t>nos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8"/>
            <p:cNvSpPr/>
            <p:nvPr/>
          </p:nvSpPr>
          <p:spPr>
            <a:xfrm>
              <a:off x="4680000" y="2543040"/>
              <a:ext cx="977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3333cc"/>
                  </a:solidFill>
                  <a:latin typeface="Times New Roman"/>
                </a:rPr>
                <a:t>os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9"/>
            <p:cNvSpPr/>
            <p:nvPr/>
          </p:nvSpPr>
          <p:spPr>
            <a:xfrm>
              <a:off x="4680000" y="3225960"/>
              <a:ext cx="1071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3333cc"/>
                  </a:solidFill>
                  <a:latin typeface="Times New Roman"/>
                </a:rPr>
                <a:t>les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32"/>
          <p:cNvGrpSpPr/>
          <p:nvPr/>
        </p:nvGrpSpPr>
        <p:grpSpPr>
          <a:xfrm>
            <a:off x="2438280" y="1943280"/>
            <a:ext cx="5867640" cy="2922840"/>
            <a:chOff x="2438280" y="1943280"/>
            <a:chExt cx="5867640" cy="2922840"/>
          </a:xfrm>
        </p:grpSpPr>
        <p:sp>
          <p:nvSpPr>
            <p:cNvPr id="643" name="Text Box 10"/>
            <p:cNvSpPr/>
            <p:nvPr/>
          </p:nvSpPr>
          <p:spPr>
            <a:xfrm>
              <a:off x="2438280" y="1952640"/>
              <a:ext cx="1524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(a</a:t>
              </a: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 mí</a:t>
              </a: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Text Box 11"/>
            <p:cNvSpPr/>
            <p:nvPr/>
          </p:nvSpPr>
          <p:spPr>
            <a:xfrm>
              <a:off x="2438280" y="2530440"/>
              <a:ext cx="1524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ti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2"/>
            <p:cNvSpPr/>
            <p:nvPr/>
          </p:nvSpPr>
          <p:spPr>
            <a:xfrm>
              <a:off x="2438280" y="3247920"/>
              <a:ext cx="17528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usted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Text Box 13"/>
            <p:cNvSpPr/>
            <p:nvPr/>
          </p:nvSpPr>
          <p:spPr>
            <a:xfrm>
              <a:off x="2438280" y="3732120"/>
              <a:ext cx="18288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</a:t>
              </a: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é</a:t>
              </a: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l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14"/>
            <p:cNvSpPr/>
            <p:nvPr/>
          </p:nvSpPr>
          <p:spPr>
            <a:xfrm>
              <a:off x="2438280" y="4254480"/>
              <a:ext cx="19814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ella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15"/>
            <p:cNvSpPr/>
            <p:nvPr/>
          </p:nvSpPr>
          <p:spPr>
            <a:xfrm>
              <a:off x="5562720" y="1943280"/>
              <a:ext cx="2743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nosotros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Text Box 16"/>
            <p:cNvSpPr/>
            <p:nvPr/>
          </p:nvSpPr>
          <p:spPr>
            <a:xfrm>
              <a:off x="5562720" y="2514600"/>
              <a:ext cx="2743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vosotros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17"/>
            <p:cNvSpPr/>
            <p:nvPr/>
          </p:nvSpPr>
          <p:spPr>
            <a:xfrm>
              <a:off x="5562720" y="3219480"/>
              <a:ext cx="2361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ustedes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18"/>
            <p:cNvSpPr/>
            <p:nvPr/>
          </p:nvSpPr>
          <p:spPr>
            <a:xfrm>
              <a:off x="5562720" y="3722760"/>
              <a:ext cx="18288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ell</a:t>
              </a: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s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5562720" y="4245120"/>
              <a:ext cx="2743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400" spc="-1" strike="noStrike">
                  <a:solidFill>
                    <a:srgbClr val="000000"/>
                  </a:solidFill>
                  <a:latin typeface="Times New Roman"/>
                </a:rPr>
                <a:t>(a ellas)</a:t>
              </a:r>
              <a:endParaRPr b="1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20"/>
          <p:cNvGrpSpPr/>
          <p:nvPr/>
        </p:nvGrpSpPr>
        <p:grpSpPr>
          <a:xfrm>
            <a:off x="1542960" y="1447920"/>
            <a:ext cx="3975120" cy="2411280"/>
            <a:chOff x="1542960" y="1447920"/>
            <a:chExt cx="3975120" cy="2411280"/>
          </a:xfrm>
        </p:grpSpPr>
        <p:sp>
          <p:nvSpPr>
            <p:cNvPr id="654" name="Rectangle 21"/>
            <p:cNvSpPr/>
            <p:nvPr/>
          </p:nvSpPr>
          <p:spPr>
            <a:xfrm>
              <a:off x="1542960" y="2041560"/>
              <a:ext cx="863640" cy="181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22"/>
            <p:cNvSpPr/>
            <p:nvPr/>
          </p:nvSpPr>
          <p:spPr>
            <a:xfrm>
              <a:off x="4654440" y="2041560"/>
              <a:ext cx="863640" cy="181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23"/>
            <p:cNvSpPr/>
            <p:nvPr/>
          </p:nvSpPr>
          <p:spPr>
            <a:xfrm>
              <a:off x="1952640" y="1447920"/>
              <a:ext cx="3200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These are mandatory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24"/>
            <p:cNvSpPr/>
            <p:nvPr/>
          </p:nvSpPr>
          <p:spPr>
            <a:xfrm flipH="1">
              <a:off x="1856880" y="1727280"/>
              <a:ext cx="14292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5"/>
            <p:cNvSpPr/>
            <p:nvPr/>
          </p:nvSpPr>
          <p:spPr>
            <a:xfrm>
              <a:off x="4971960" y="1736640"/>
              <a:ext cx="19044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Text Box 33"/>
          <p:cNvSpPr/>
          <p:nvPr/>
        </p:nvSpPr>
        <p:spPr>
          <a:xfrm>
            <a:off x="2895480" y="563868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f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larific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emphas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26"/>
          <p:cNvGrpSpPr/>
          <p:nvPr/>
        </p:nvGrpSpPr>
        <p:grpSpPr>
          <a:xfrm>
            <a:off x="2463840" y="1995480"/>
            <a:ext cx="5397480" cy="3735000"/>
            <a:chOff x="2463840" y="1995480"/>
            <a:chExt cx="5397480" cy="3735000"/>
          </a:xfrm>
        </p:grpSpPr>
        <p:sp>
          <p:nvSpPr>
            <p:cNvPr id="661" name="Rectangle 27"/>
            <p:cNvSpPr/>
            <p:nvPr/>
          </p:nvSpPr>
          <p:spPr>
            <a:xfrm>
              <a:off x="2463840" y="1995480"/>
              <a:ext cx="1816200" cy="291924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28"/>
            <p:cNvSpPr/>
            <p:nvPr/>
          </p:nvSpPr>
          <p:spPr>
            <a:xfrm>
              <a:off x="5575320" y="2004840"/>
              <a:ext cx="2286000" cy="29196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9"/>
            <p:cNvSpPr/>
            <p:nvPr/>
          </p:nvSpPr>
          <p:spPr>
            <a:xfrm>
              <a:off x="3562200" y="4978440"/>
              <a:ext cx="28195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The prepositional forms are optional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30"/>
            <p:cNvSpPr/>
            <p:nvPr/>
          </p:nvSpPr>
          <p:spPr>
            <a:xfrm flipH="1" flipV="1">
              <a:off x="3314880" y="4978440"/>
              <a:ext cx="27936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31"/>
            <p:cNvSpPr/>
            <p:nvPr/>
          </p:nvSpPr>
          <p:spPr>
            <a:xfrm flipV="1">
              <a:off x="6267600" y="4978440"/>
              <a:ext cx="27936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685800" y="4269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l the prepositional forms can be used to 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mphasize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the object pronoun for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533520" y="24843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le gustan los frijoles, pero      sí me gusta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1523880" y="167796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oesn’t like beans but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533520" y="24843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Ju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7605720" y="248436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0"/>
          <p:cNvSpPr/>
          <p:nvPr/>
        </p:nvSpPr>
        <p:spPr>
          <a:xfrm>
            <a:off x="595440" y="1681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Jua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1"/>
          <p:cNvSpPr/>
          <p:nvPr/>
        </p:nvSpPr>
        <p:spPr>
          <a:xfrm>
            <a:off x="5638680" y="167796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2"/>
          <p:cNvSpPr/>
          <p:nvPr/>
        </p:nvSpPr>
        <p:spPr>
          <a:xfrm>
            <a:off x="5886360" y="16779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o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457200" y="3962520"/>
            <a:ext cx="83818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Notice that because </a:t>
            </a:r>
            <a:r>
              <a:rPr b="1" i="1" lang="es-ES_tradnl" sz="3000" spc="-1" strike="noStrike">
                <a:solidFill>
                  <a:srgbClr val="000000"/>
                </a:solidFill>
                <a:latin typeface="Times New Roman"/>
              </a:rPr>
              <a:t>Juan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s-ES_tradnl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were stressed in the above sentence in English, we added the prepositional forms </a:t>
            </a:r>
            <a:r>
              <a:rPr b="1" i="1" lang="es-ES_tradnl" sz="3000" spc="-1" strike="noStrike">
                <a:solidFill>
                  <a:srgbClr val="000000"/>
                </a:solidFill>
                <a:latin typeface="Times New Roman"/>
              </a:rPr>
              <a:t>a Juan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s-ES_tradnl" sz="3000" spc="-1" strike="noStrike">
                <a:solidFill>
                  <a:srgbClr val="000000"/>
                </a:solidFill>
                <a:latin typeface="Times New Roman"/>
              </a:rPr>
              <a:t>a mí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in Spanish to reflect that stress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6"/>
          <p:cNvSpPr/>
          <p:nvPr/>
        </p:nvSpPr>
        <p:spPr>
          <a:xfrm>
            <a:off x="671400" y="2986200"/>
            <a:ext cx="1295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7"/>
          <p:cNvSpPr/>
          <p:nvPr/>
        </p:nvSpPr>
        <p:spPr>
          <a:xfrm>
            <a:off x="7696080" y="2986200"/>
            <a:ext cx="7621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8"/>
          <p:cNvSpPr/>
          <p:nvPr/>
        </p:nvSpPr>
        <p:spPr>
          <a:xfrm>
            <a:off x="685800" y="2238480"/>
            <a:ext cx="838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9"/>
          <p:cNvSpPr/>
          <p:nvPr/>
        </p:nvSpPr>
        <p:spPr>
          <a:xfrm>
            <a:off x="5700600" y="222408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3"/>
          <p:cNvSpPr/>
          <p:nvPr/>
        </p:nvSpPr>
        <p:spPr>
          <a:xfrm>
            <a:off x="1066680" y="17524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s encantan las banan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457200" y="2438280"/>
            <a:ext cx="83818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i="1" lang="es-ES_tradnl" sz="2600" spc="-1" strike="noStrike">
                <a:solidFill>
                  <a:srgbClr val="000000"/>
                </a:solidFill>
                <a:latin typeface="Times New Roman"/>
              </a:rPr>
              <a:t>les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can represent a number of different people, we may need to add a prepositional form to avoid confusion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181080" y="417600"/>
            <a:ext cx="88027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Since the third-person pronouns </a:t>
            </a:r>
            <a:r>
              <a:rPr b="1" i="1" lang="es-ES_tradnl" sz="34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s-ES_tradnl" sz="3400" spc="-1" strike="noStrike">
                <a:solidFill>
                  <a:srgbClr val="000000"/>
                </a:solidFill>
                <a:latin typeface="Times New Roman"/>
              </a:rPr>
              <a:t>les</a:t>
            </a: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 can be ambiguous, they sometimes require prepositional forms for </a:t>
            </a:r>
            <a:r>
              <a:rPr b="0" lang="es-ES_tradnl" sz="3400" spc="-1" strike="noStrike" u="sng">
                <a:solidFill>
                  <a:srgbClr val="000000"/>
                </a:solidFill>
                <a:uFillTx/>
                <a:latin typeface="Times New Roman"/>
              </a:rPr>
              <a:t>clarification</a:t>
            </a: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914400" y="32767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ellos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ncantan las banan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914400" y="394344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ellas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ncantan las banan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914400" y="5715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Uds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ncantan las banan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914400" y="4610160"/>
            <a:ext cx="7620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Luis y a Marta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ncantan las banana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6"/>
          <p:cNvSpPr/>
          <p:nvPr/>
        </p:nvSpPr>
        <p:spPr>
          <a:xfrm>
            <a:off x="1004760" y="382284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7"/>
          <p:cNvSpPr/>
          <p:nvPr/>
        </p:nvSpPr>
        <p:spPr>
          <a:xfrm>
            <a:off x="1038240" y="5122800"/>
            <a:ext cx="35053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8"/>
          <p:cNvSpPr/>
          <p:nvPr/>
        </p:nvSpPr>
        <p:spPr>
          <a:xfrm>
            <a:off x="990720" y="4494240"/>
            <a:ext cx="1447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19"/>
          <p:cNvSpPr/>
          <p:nvPr/>
        </p:nvSpPr>
        <p:spPr>
          <a:xfrm>
            <a:off x="1019160" y="6265800"/>
            <a:ext cx="1295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9998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914400" y="364680"/>
            <a:ext cx="73152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ar = to be plea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1962000" y="3336840"/>
            <a:ext cx="24606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o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a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4552920" y="3336840"/>
            <a:ext cx="32194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amo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ái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an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62120" y="2405160"/>
            <a:ext cx="76197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a completely regular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erb in its conjug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0"/>
          <p:cNvSpPr/>
          <p:nvPr/>
        </p:nvSpPr>
        <p:spPr>
          <a:xfrm>
            <a:off x="457200" y="10666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sed to express preferences, likes, and dislikes; however, gustar means “to be pleasing,” and is constructed very differently from the English “to like.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120" y="2361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 like i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4"/>
          <p:cNvSpPr/>
          <p:nvPr/>
        </p:nvSpPr>
        <p:spPr>
          <a:xfrm rot="20893200">
            <a:off x="457200" y="23619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, we say . .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838080" y="33685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panish, “it” becomes the subject of the sentence and we say instead . .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609480" y="42670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t’s pleasing to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914400" y="365040"/>
            <a:ext cx="7315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ustar = to be pleasing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914400" y="12193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panish, the thing or things that we like are expressed as being “pleasing to us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1"/>
          <p:cNvSpPr/>
          <p:nvPr/>
        </p:nvSpPr>
        <p:spPr>
          <a:xfrm rot="20893200">
            <a:off x="6095880" y="21686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where “it” is the direct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2"/>
          <p:cNvSpPr/>
          <p:nvPr/>
        </p:nvSpPr>
        <p:spPr>
          <a:xfrm flipH="1">
            <a:off x="2362320" y="3200400"/>
            <a:ext cx="3047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304920" y="5486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” is then expressed as the indirect object phrase “to m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4"/>
          <p:cNvSpPr/>
          <p:nvPr/>
        </p:nvSpPr>
        <p:spPr>
          <a:xfrm>
            <a:off x="5700600" y="5062680"/>
            <a:ext cx="1600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5"/>
          <p:cNvSpPr/>
          <p:nvPr/>
        </p:nvSpPr>
        <p:spPr>
          <a:xfrm flipV="1">
            <a:off x="63244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6"/>
          <p:cNvSpPr/>
          <p:nvPr/>
        </p:nvSpPr>
        <p:spPr>
          <a:xfrm>
            <a:off x="3548160" y="3200400"/>
            <a:ext cx="27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1294920" y="93024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like Spanis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0"/>
          <p:cNvSpPr/>
          <p:nvPr/>
        </p:nvSpPr>
        <p:spPr>
          <a:xfrm>
            <a:off x="744480" y="230184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panish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1"/>
          <p:cNvSpPr/>
          <p:nvPr/>
        </p:nvSpPr>
        <p:spPr>
          <a:xfrm>
            <a:off x="3124080" y="230184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pleasing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2"/>
          <p:cNvSpPr/>
          <p:nvPr/>
        </p:nvSpPr>
        <p:spPr>
          <a:xfrm>
            <a:off x="6248520" y="2301840"/>
            <a:ext cx="2192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m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H="1">
            <a:off x="2362320" y="1692360"/>
            <a:ext cx="2743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4"/>
          <p:cNvSpPr/>
          <p:nvPr/>
        </p:nvSpPr>
        <p:spPr>
          <a:xfrm>
            <a:off x="2743200" y="1692360"/>
            <a:ext cx="441972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5"/>
          <p:cNvSpPr/>
          <p:nvPr/>
        </p:nvSpPr>
        <p:spPr>
          <a:xfrm>
            <a:off x="1447920" y="3521160"/>
            <a:ext cx="3276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 españo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6"/>
          <p:cNvSpPr/>
          <p:nvPr/>
        </p:nvSpPr>
        <p:spPr>
          <a:xfrm>
            <a:off x="4516560" y="3521160"/>
            <a:ext cx="317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 gust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7"/>
          <p:cNvSpPr/>
          <p:nvPr/>
        </p:nvSpPr>
        <p:spPr>
          <a:xfrm>
            <a:off x="6213600" y="3521160"/>
            <a:ext cx="1330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2"/>
          <p:cNvSpPr/>
          <p:nvPr/>
        </p:nvSpPr>
        <p:spPr>
          <a:xfrm>
            <a:off x="838080" y="4299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of course, in Spanish, pronouns must be plac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jugated verb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25"/>
          <p:cNvSpPr/>
          <p:nvPr/>
        </p:nvSpPr>
        <p:spPr>
          <a:xfrm flipH="1">
            <a:off x="5257800" y="3063960"/>
            <a:ext cx="175248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26"/>
          <p:cNvSpPr/>
          <p:nvPr/>
        </p:nvSpPr>
        <p:spPr>
          <a:xfrm>
            <a:off x="4800600" y="3063960"/>
            <a:ext cx="160020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228600" y="3139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panish, this would literally be . .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914400" y="5105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it so happens that, by convention, the subject (in this 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 españ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generally placed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entence with this type of constru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380880" y="32076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t’s start by talking about something we all lik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4"/>
          <p:cNvSpPr/>
          <p:nvPr/>
        </p:nvSpPr>
        <p:spPr>
          <a:xfrm>
            <a:off x="304920" y="175248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llowing the format on the previous slide, we would say . . 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19"/>
          <p:cNvSpPr/>
          <p:nvPr/>
        </p:nvSpPr>
        <p:spPr>
          <a:xfrm>
            <a:off x="4513320" y="3382920"/>
            <a:ext cx="33526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 gusta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1447920" y="3519360"/>
            <a:ext cx="3276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 españo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1066680" y="3519360"/>
            <a:ext cx="6248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 español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5"/>
          <p:cNvSpPr/>
          <p:nvPr/>
        </p:nvSpPr>
        <p:spPr>
          <a:xfrm>
            <a:off x="2379600" y="3003480"/>
            <a:ext cx="358164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94920" y="92844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like Spanis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744480" y="230040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panish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3124080" y="2300400"/>
            <a:ext cx="3505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pleasing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6248520" y="2300400"/>
            <a:ext cx="2192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m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6"/>
          <p:cNvSpPr/>
          <p:nvPr/>
        </p:nvSpPr>
        <p:spPr>
          <a:xfrm flipH="1">
            <a:off x="2362320" y="1690560"/>
            <a:ext cx="2743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7"/>
          <p:cNvSpPr/>
          <p:nvPr/>
        </p:nvSpPr>
        <p:spPr>
          <a:xfrm>
            <a:off x="2743200" y="1690560"/>
            <a:ext cx="44197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465200" y="3402000"/>
            <a:ext cx="27432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 gust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0"/>
          <p:cNvSpPr/>
          <p:nvPr/>
        </p:nvSpPr>
        <p:spPr>
          <a:xfrm>
            <a:off x="471600" y="4800600"/>
            <a:ext cx="80485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urns out, then, that the sentence in Spanish is exactly the reverse of that in English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21"/>
          <p:cNvSpPr/>
          <p:nvPr/>
        </p:nvSpPr>
        <p:spPr>
          <a:xfrm>
            <a:off x="6629400" y="5238720"/>
            <a:ext cx="2362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 its sense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2"/>
          <p:cNvSpPr/>
          <p:nvPr/>
        </p:nvSpPr>
        <p:spPr>
          <a:xfrm>
            <a:off x="2514600" y="5673600"/>
            <a:ext cx="4724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d also in its word ord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rc 23"/>
          <p:cNvSpPr/>
          <p:nvPr/>
        </p:nvSpPr>
        <p:spPr>
          <a:xfrm flipV="1" rot="1828800">
            <a:off x="3846240" y="3736800"/>
            <a:ext cx="1827000" cy="10666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rc 24"/>
          <p:cNvSpPr/>
          <p:nvPr/>
        </p:nvSpPr>
        <p:spPr>
          <a:xfrm flipV="1" rot="3972000">
            <a:off x="1598040" y="3193920"/>
            <a:ext cx="1828800" cy="1257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rc 25"/>
          <p:cNvSpPr/>
          <p:nvPr/>
        </p:nvSpPr>
        <p:spPr>
          <a:xfrm flipH="1" flipV="1" rot="19771200">
            <a:off x="5105880" y="2484000"/>
            <a:ext cx="1827720" cy="10670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rc 26"/>
          <p:cNvSpPr/>
          <p:nvPr/>
        </p:nvSpPr>
        <p:spPr>
          <a:xfrm flipH="1" flipV="1" rot="17431800">
            <a:off x="2385720" y="1502280"/>
            <a:ext cx="2081160" cy="20401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3"/>
          <p:cNvSpPr/>
          <p:nvPr/>
        </p:nvSpPr>
        <p:spPr>
          <a:xfrm>
            <a:off x="638280" y="457200"/>
            <a:ext cx="8048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 express that others like Spanish, only the object pronoun needs to change, since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panish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emains the subject in all the sentenc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8"/>
          <p:cNvSpPr/>
          <p:nvPr/>
        </p:nvSpPr>
        <p:spPr>
          <a:xfrm>
            <a:off x="2819520" y="358128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gusta el español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1600200" y="1841400"/>
            <a:ext cx="1357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3"/>
          <p:cNvSpPr/>
          <p:nvPr/>
        </p:nvSpPr>
        <p:spPr>
          <a:xfrm>
            <a:off x="2971800" y="1981080"/>
            <a:ext cx="14065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914400" y="304920"/>
            <a:ext cx="76201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most of the things or people that please us are expressed in third person, the two form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are used most commonly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us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ust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4460760" y="1981080"/>
            <a:ext cx="216864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am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ái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2819520" y="2895480"/>
            <a:ext cx="3352680" cy="451080"/>
          </a:xfrm>
          <a:prstGeom prst="rect">
            <a:avLst/>
          </a:prstGeom>
          <a:solidFill>
            <a:srgbClr val="00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447920" y="344340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os gus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el flan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que hace la abuela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1447920" y="4815000"/>
            <a:ext cx="495288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o le gus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los huevo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rc 11"/>
          <p:cNvSpPr/>
          <p:nvPr/>
        </p:nvSpPr>
        <p:spPr>
          <a:xfrm flipV="1" rot="2894400">
            <a:off x="3452040" y="3474360"/>
            <a:ext cx="646200" cy="8888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rc 12"/>
          <p:cNvSpPr/>
          <p:nvPr/>
        </p:nvSpPr>
        <p:spPr>
          <a:xfrm flipV="1" rot="3225000">
            <a:off x="3861360" y="4716000"/>
            <a:ext cx="838440" cy="11923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2133720" y="4129200"/>
            <a:ext cx="609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like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l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grandma makes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2133720" y="562284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he doesn’t like eggs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3"/>
          <p:cNvSpPr/>
          <p:nvPr/>
        </p:nvSpPr>
        <p:spPr>
          <a:xfrm>
            <a:off x="1066680" y="47952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course, it is possible to use other forms.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ust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example is used frequent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2819520" y="170964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 gust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(tú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rc 8"/>
          <p:cNvSpPr/>
          <p:nvPr/>
        </p:nvSpPr>
        <p:spPr>
          <a:xfrm flipV="1" rot="1952400">
            <a:off x="5145120" y="1600200"/>
            <a:ext cx="555480" cy="9907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2057400" y="2500200"/>
            <a:ext cx="5105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please me. (I like you.)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685800" y="3262320"/>
            <a:ext cx="8001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used with one or more infinitives, only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hird person singula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used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3165480" y="4206960"/>
            <a:ext cx="30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gu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e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3"/>
          <p:cNvSpPr/>
          <p:nvPr/>
        </p:nvSpPr>
        <p:spPr>
          <a:xfrm>
            <a:off x="1066680" y="48927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gu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eer, jugar fútbol, y viaja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verb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use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usivel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ndirec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bject pronou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4"/>
          <p:cNvSpPr/>
          <p:nvPr/>
        </p:nvSpPr>
        <p:spPr>
          <a:xfrm>
            <a:off x="2666880" y="2251080"/>
            <a:ext cx="1676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me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5"/>
          <p:cNvSpPr/>
          <p:nvPr/>
        </p:nvSpPr>
        <p:spPr>
          <a:xfrm>
            <a:off x="2666880" y="3230640"/>
            <a:ext cx="99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te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6"/>
          <p:cNvSpPr/>
          <p:nvPr/>
        </p:nvSpPr>
        <p:spPr>
          <a:xfrm>
            <a:off x="2666880" y="4211640"/>
            <a:ext cx="1143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le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7"/>
          <p:cNvSpPr/>
          <p:nvPr/>
        </p:nvSpPr>
        <p:spPr>
          <a:xfrm>
            <a:off x="4952880" y="2251080"/>
            <a:ext cx="1676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nos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8"/>
          <p:cNvSpPr/>
          <p:nvPr/>
        </p:nvSpPr>
        <p:spPr>
          <a:xfrm>
            <a:off x="4952880" y="3230640"/>
            <a:ext cx="1447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os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9"/>
          <p:cNvSpPr/>
          <p:nvPr/>
        </p:nvSpPr>
        <p:spPr>
          <a:xfrm>
            <a:off x="4952880" y="4211640"/>
            <a:ext cx="1447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les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2T04:08:16Z</dcterms:created>
  <dc:creator>WR Cisco</dc:creator>
  <dc:description/>
  <dc:language>en-US</dc:language>
  <cp:lastModifiedBy>localadmin</cp:lastModifiedBy>
  <dcterms:modified xsi:type="dcterms:W3CDTF">2010-09-16T05:05:27Z</dcterms:modified>
  <cp:revision>255</cp:revision>
  <dc:subject/>
  <dc:title>Gustar and similar verbs</dc:title>
</cp:coreProperties>
</file>